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DAEA-89C2-4EF6-9739-401AC7E6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A9A1-85F0-49B7-BDB5-BA9DBCE3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2C4-765E-4272-AF56-A36970D7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5D3-1332-46F2-A0D2-B94ACF71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C826-D69B-4316-AF83-323198B3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754A-77EF-4EC2-B498-F01ADA5C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E416-E4F3-4AF8-89A8-9BFD3BD6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7D07-1DF0-49A7-844F-A8DD77B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080-EFBD-45B5-9A87-C60DBAAE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1958-0613-41C8-AB64-6D274B12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F1E-375D-4D56-B566-07EFEDE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88D-0308-4E64-80B0-2ED2CCD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1759-BF69-4394-B76E-4195EF3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8FF1-0D66-4F9A-93A9-11C6683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1A0C-FC01-46C8-A219-9EBEF2B6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A3E-F723-4EC3-8DC7-7B1145E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746-1600-47B4-951C-82702997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7F31-12E5-4786-B838-E39B1923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92C4-D785-4587-BB6A-B7BFCC23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18E40-4627-4839-93C9-4DFE831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C8756-1BA7-4E69-9141-C90DADA1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022E-40B5-4FFE-96F4-D41E0F1A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6E7-305D-464B-9148-8A47E2E6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3AE80-3137-4C7E-8951-C9AEB38F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6CAE9-B642-49F0-A485-1A294C4E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672E-D88F-40BD-97B3-39C6C0A8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5B23-30FA-4B71-9B35-5A796AD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13DC8-3448-4BC4-8456-DCECC079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0C98-C886-4AB9-B217-E7FA25A5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03050-3ADA-4C66-B5BB-F3A33C52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DA0A5-90B6-4974-A9C1-A679C4C5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8133C-2A92-4F1B-A5CE-0B4E99C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D8298-4AB0-49F8-B957-7D000FC6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E15-1BD3-403B-8190-C28BB6D0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0E77-A3B7-4718-B9E4-6572F42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647AD-D0F4-4C63-836F-284C1049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356A4-F4AD-4301-BC70-949AA42A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B3338-0389-4894-B492-44ECCB55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9BF3D-9BE6-4CD0-A17C-76E8228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A0EE-2ED5-4B79-8315-84F5244F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3649F-B37D-4DE4-8963-B77550A3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8437-F277-4E62-93E7-19C4B6D99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88C5-470B-45EC-BFED-F38C52D2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9C70-C2D9-465A-B9D3-AFE8ACDA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9E4-2421-4C06-BF0B-5C64F94A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68C77-AA2C-40D4-A692-8459684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7BAF-0B6B-48D5-9593-77526DC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A9CFE-E411-4889-AC72-64A7C385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078A-37C3-437F-88F5-25226AEA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AF1C3-8DCD-4544-9B1A-A562224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A3E8-D0DA-4570-BEB7-2067D19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0C51-80DE-434B-924A-75AA7BC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D05E-1C5C-4DA9-9CB9-62659A6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74F2-24EB-466A-AA8E-D43DB4F1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7401A-6306-421B-8340-C392EF94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639-022D-4F0A-ACB4-643BFCC9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8F045-D633-4337-B8CC-3AFF5C33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FE0-2519-4D91-B08C-917D24DE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28C-616A-4DBF-B44D-1E78ED2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2637-232B-4235-9545-B7C1DDD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D09-930D-433E-B4A8-70E9A869BA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443-D8B5-4016-B3C4-667485CF360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704-81EA-4945-87B6-3E02652384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62DA-81A7-4C7B-8407-50C72C4B474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8D61-E9D9-45B9-B5DC-E917431FEDE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14680" y="1214280"/>
            <a:ext cx="55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Простейшие 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642960" y="304920"/>
            <a:ext cx="664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8d3e"/>
                </a:solidFill>
                <a:latin typeface="Times New Roman"/>
              </a:rPr>
              <a:t>Решите неравенство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357200" y="928800"/>
                <a:ext cx="282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506600" y="2286000"/>
                <a:ext cx="2730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282600" y="3500280"/>
                <a:ext cx="8432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1428840" y="4071960"/>
                <a:ext cx="2181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5372280" y="5257800"/>
                <a:ext cx="3554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Прямоугольник 9"/>
          <p:cNvSpPr/>
          <p:nvPr/>
        </p:nvSpPr>
        <p:spPr>
          <a:xfrm>
            <a:off x="3356280" y="55008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3"/>
          <p:cNvSpPr/>
          <p:nvPr/>
        </p:nvSpPr>
        <p:spPr>
          <a:xfrm>
            <a:off x="2653200" y="28584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785880" y="857160"/>
                <a:ext cx="26240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560" y="2500200"/>
                <a:ext cx="83804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убыв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357200" y="3857760"/>
                <a:ext cx="1047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4929120" y="4857840"/>
                <a:ext cx="20718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угольник 8"/>
          <p:cNvSpPr/>
          <p:nvPr/>
        </p:nvSpPr>
        <p:spPr>
          <a:xfrm>
            <a:off x="2998800" y="514368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23232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143000" y="990720"/>
                <a:ext cx="167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000080" y="2143080"/>
                <a:ext cx="1873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928800" y="2714760"/>
                <a:ext cx="7238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снование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1143000" y="3286080"/>
                <a:ext cx="1689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143000" y="3857760"/>
                <a:ext cx="1701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857840" y="4714920"/>
                <a:ext cx="234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Прямоугольник 9"/>
          <p:cNvSpPr/>
          <p:nvPr/>
        </p:nvSpPr>
        <p:spPr>
          <a:xfrm>
            <a:off x="2856240" y="500076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1"/>
          <p:cNvSpPr/>
          <p:nvPr/>
        </p:nvSpPr>
        <p:spPr>
          <a:xfrm>
            <a:off x="785880" y="49824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0"/>
              <p:cNvSpPr txBox="1"/>
              <p:nvPr/>
            </p:nvSpPr>
            <p:spPr>
              <a:xfrm>
                <a:off x="1571760" y="285840"/>
                <a:ext cx="6429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Rectangle 32"/>
          <p:cNvSpPr/>
          <p:nvPr/>
        </p:nvSpPr>
        <p:spPr>
          <a:xfrm>
            <a:off x="0" y="38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&gt;2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3"/>
              <p:cNvSpPr txBox="1"/>
              <p:nvPr/>
            </p:nvSpPr>
            <p:spPr>
              <a:xfrm>
                <a:off x="3429000" y="428760"/>
                <a:ext cx="1000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Прямоугольник 36"/>
          <p:cNvSpPr/>
          <p:nvPr/>
        </p:nvSpPr>
        <p:spPr>
          <a:xfrm>
            <a:off x="4506120" y="4287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7"/>
          <p:cNvSpPr/>
          <p:nvPr/>
        </p:nvSpPr>
        <p:spPr>
          <a:xfrm>
            <a:off x="932040" y="1357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5"/>
              <p:cNvSpPr txBox="1"/>
              <p:nvPr/>
            </p:nvSpPr>
            <p:spPr>
              <a:xfrm>
                <a:off x="1643040" y="1071720"/>
                <a:ext cx="170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7"/>
              <p:cNvSpPr txBox="1"/>
              <p:nvPr/>
            </p:nvSpPr>
            <p:spPr>
              <a:xfrm>
                <a:off x="3429000" y="1285920"/>
                <a:ext cx="3298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Прямоугольник 42"/>
          <p:cNvSpPr/>
          <p:nvPr/>
        </p:nvSpPr>
        <p:spPr>
          <a:xfrm>
            <a:off x="932400" y="2357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5"/>
          <p:cNvSpPr/>
          <p:nvPr/>
        </p:nvSpPr>
        <p:spPr>
          <a:xfrm>
            <a:off x="2720160" y="23572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1500120" y="23295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0,2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2"/>
              <p:cNvSpPr txBox="1"/>
              <p:nvPr/>
            </p:nvSpPr>
            <p:spPr>
              <a:xfrm>
                <a:off x="3500280" y="242892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6"/>
          <p:cNvSpPr/>
          <p:nvPr/>
        </p:nvSpPr>
        <p:spPr>
          <a:xfrm>
            <a:off x="4929120" y="23594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2"/>
          <p:cNvSpPr/>
          <p:nvPr/>
        </p:nvSpPr>
        <p:spPr>
          <a:xfrm>
            <a:off x="1003680" y="31431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7"/>
              <p:cNvSpPr txBox="1"/>
              <p:nvPr/>
            </p:nvSpPr>
            <p:spPr>
              <a:xfrm>
                <a:off x="1643040" y="3000240"/>
                <a:ext cx="17431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9"/>
              <p:cNvSpPr txBox="1"/>
              <p:nvPr/>
            </p:nvSpPr>
            <p:spPr>
              <a:xfrm>
                <a:off x="3429000" y="3286080"/>
                <a:ext cx="2330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Прямоугольник 57"/>
          <p:cNvSpPr/>
          <p:nvPr/>
        </p:nvSpPr>
        <p:spPr>
          <a:xfrm>
            <a:off x="5643720" y="3214800"/>
            <a:ext cx="4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8"/>
          <p:cNvSpPr/>
          <p:nvPr/>
        </p:nvSpPr>
        <p:spPr>
          <a:xfrm>
            <a:off x="1003680" y="4071960"/>
            <a:ext cx="5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1"/>
              <p:cNvSpPr txBox="1"/>
              <p:nvPr/>
            </p:nvSpPr>
            <p:spPr>
              <a:xfrm>
                <a:off x="1714680" y="4071960"/>
                <a:ext cx="642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Прямоугольник 61"/>
          <p:cNvSpPr/>
          <p:nvPr/>
        </p:nvSpPr>
        <p:spPr>
          <a:xfrm>
            <a:off x="2432880" y="40719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53"/>
              <p:cNvSpPr txBox="1"/>
              <p:nvPr/>
            </p:nvSpPr>
            <p:spPr>
              <a:xfrm>
                <a:off x="2928960" y="4000680"/>
                <a:ext cx="71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5"/>
              <p:cNvSpPr txBox="1"/>
              <p:nvPr/>
            </p:nvSpPr>
            <p:spPr>
              <a:xfrm>
                <a:off x="3643200" y="4214880"/>
                <a:ext cx="12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угольник 66"/>
          <p:cNvSpPr/>
          <p:nvPr/>
        </p:nvSpPr>
        <p:spPr>
          <a:xfrm>
            <a:off x="4556160" y="421488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й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157040" y="571680"/>
            <a:ext cx="38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˄ ˄ ˄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857160" y="2428920"/>
            <a:ext cx="764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график линейной функции - прямая линия"/>
          <p:cNvPicPr/>
          <p:nvPr/>
        </p:nvPicPr>
        <p:blipFill>
          <a:blip r:embed="rId2"/>
          <a:stretch/>
        </p:blipFill>
        <p:spPr>
          <a:xfrm>
            <a:off x="785880" y="214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рафик квадратичной функции - парабола"/>
          <p:cNvPicPr/>
          <p:nvPr/>
        </p:nvPicPr>
        <p:blipFill>
          <a:blip r:embed="rId3"/>
          <a:stretch/>
        </p:blipFill>
        <p:spPr>
          <a:xfrm>
            <a:off x="3357720" y="214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график показательной функции - экспонента"/>
          <p:cNvPicPr/>
          <p:nvPr/>
        </p:nvPicPr>
        <p:blipFill>
          <a:blip r:embed="rId4"/>
          <a:stretch/>
        </p:blipFill>
        <p:spPr>
          <a:xfrm>
            <a:off x="5715000" y="21420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график логарифмической функции - логарифмика"/>
          <p:cNvPicPr/>
          <p:nvPr/>
        </p:nvPicPr>
        <p:blipFill>
          <a:blip r:embed="rId5"/>
          <a:stretch/>
        </p:blipFill>
        <p:spPr>
          <a:xfrm>
            <a:off x="785880" y="2643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график обратной пропорциональности - гипербола"/>
          <p:cNvPicPr/>
          <p:nvPr/>
        </p:nvPicPr>
        <p:blipFill>
          <a:blip r:embed="rId6"/>
          <a:stretch/>
        </p:blipFill>
        <p:spPr>
          <a:xfrm>
            <a:off x="3429000" y="2643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график показательной функции - экспонента"/>
          <p:cNvPicPr/>
          <p:nvPr/>
        </p:nvPicPr>
        <p:blipFill>
          <a:blip r:embed="rId7"/>
          <a:stretch/>
        </p:blipFill>
        <p:spPr>
          <a:xfrm>
            <a:off x="585792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график кубическая парабола"/>
          <p:cNvPicPr/>
          <p:nvPr/>
        </p:nvPicPr>
        <p:blipFill>
          <a:blip r:embed="rId8"/>
          <a:stretch/>
        </p:blipFill>
        <p:spPr>
          <a:xfrm>
            <a:off x="4357800" y="471492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1646640" y="221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146120" y="2143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575760" y="214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1717920" y="4786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3646080" y="464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7072200" y="47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6504120" y="63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из перечисленных функций являются возрастающими, а какие убывающ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3571920" y="1714680"/>
                <a:ext cx="2386080" cy="10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3643200" y="2928960"/>
                <a:ext cx="3105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3714840" y="4143240"/>
                <a:ext cx="268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95280" y="692280"/>
            <a:ext cx="8497800" cy="151272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ahoma"/>
              </a:rPr>
              <a:t>Простейшие показательные 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0509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5643720" y="22860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640" y="2852640"/>
            <a:ext cx="3382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928960" y="4000680"/>
            <a:ext cx="5256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Решение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372240" y="2142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Определения</a:t>
            </a: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981000"/>
            <a:ext cx="8362800" cy="359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ьные неравенства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</a:t>
            </a:r>
            <a:br>
              <a:rPr sz="3600"/>
            </a:b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это неравенства, в которых неизвестное содержится в показателе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0200" y="52149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4357800" y="5143680"/>
                <a:ext cx="136980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6"/>
          <p:cNvGraphicFramePr/>
          <p:nvPr/>
        </p:nvGraphicFramePr>
        <p:xfrm>
          <a:off x="6286680" y="4857840"/>
          <a:ext cx="241776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4857840"/>
                    <a:ext cx="24177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8"/>
          <p:cNvSpPr/>
          <p:nvPr/>
        </p:nvSpPr>
        <p:spPr>
          <a:xfrm>
            <a:off x="4364280" y="32868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8542"/>
                </a:solidFill>
                <a:latin typeface="Verdana"/>
              </a:rPr>
              <a:t>Простейшие показательные неравенства – это неравенства ви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00080" y="150012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1000080" y="228600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Line 12"/>
          <p:cNvSpPr/>
          <p:nvPr/>
        </p:nvSpPr>
        <p:spPr>
          <a:xfrm>
            <a:off x="3857760" y="1785960"/>
            <a:ext cx="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4643280" y="164304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714920" y="2428920"/>
                <a:ext cx="21906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13"/>
          <p:cNvSpPr/>
          <p:nvPr/>
        </p:nvSpPr>
        <p:spPr>
          <a:xfrm>
            <a:off x="928800" y="53380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де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1102680" y="3143160"/>
            <a:ext cx="16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2"/>
          <p:cNvSpPr/>
          <p:nvPr/>
        </p:nvSpPr>
        <p:spPr>
          <a:xfrm>
            <a:off x="1785960" y="42148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3"/>
          <p:cNvSpPr/>
          <p:nvPr/>
        </p:nvSpPr>
        <p:spPr>
          <a:xfrm>
            <a:off x="1275480" y="4000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4786200" y="3286080"/>
            <a:ext cx="26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4960440" y="4071960"/>
            <a:ext cx="18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rcRect l="11002" t="22000" r="32004" b="9998"/>
          <a:stretch/>
        </p:blipFill>
        <p:spPr>
          <a:xfrm>
            <a:off x="1071720" y="1285920"/>
            <a:ext cx="3541680" cy="316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3"/>
          <a:srcRect l="45000" t="26000" r="0" b="8669"/>
          <a:stretch/>
        </p:blipFill>
        <p:spPr>
          <a:xfrm>
            <a:off x="5000760" y="1143000"/>
            <a:ext cx="3500280" cy="31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Object 25"/>
              <p:cNvSpPr txBox="1"/>
              <p:nvPr/>
            </p:nvSpPr>
            <p:spPr>
              <a:xfrm>
                <a:off x="2428920" y="4429080"/>
                <a:ext cx="1993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6"/>
              <p:cNvSpPr txBox="1"/>
              <p:nvPr/>
            </p:nvSpPr>
            <p:spPr>
              <a:xfrm>
                <a:off x="2571840" y="528624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3286080" y="357120"/>
                <a:ext cx="2038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6215040" y="428616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6500880" y="514368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2"/>
          <p:cNvSpPr/>
          <p:nvPr/>
        </p:nvSpPr>
        <p:spPr>
          <a:xfrm>
            <a:off x="500040" y="35712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 решении </a:t>
            </a:r>
            <a:r>
              <a:rPr b="1" i="1" lang="ru-RU" sz="3200" spc="-1" strike="noStrike">
                <a:solidFill>
                  <a:srgbClr val="1b587c"/>
                </a:solidFill>
                <a:latin typeface="Arial"/>
              </a:rPr>
              <a:t>простейших</a:t>
            </a:r>
            <a:r>
              <a:rPr b="0" i="1" lang="ru-RU" sz="32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венств используют свойства возрастания или убывания показатель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2571840" y="2214720"/>
                <a:ext cx="49608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2714760" y="4714920"/>
                <a:ext cx="52117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571680" y="428760"/>
            <a:ext cx="81435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шения простейших показательных неравенств и неравенств, приводимых к простей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.Уравнивание оснований правой и левой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2. Вынесением общего множителя за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3. Делением обеих частей неравенства на одну из степ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27:35Z</dcterms:created>
  <dc:creator>admin</dc:creator>
  <dc:description/>
  <dc:language>en-US</dc:language>
  <cp:lastModifiedBy>Любовь</cp:lastModifiedBy>
  <dcterms:modified xsi:type="dcterms:W3CDTF">2021-11-27T19:19:50Z</dcterms:modified>
  <cp:revision>108</cp:revision>
  <dc:subject/>
  <dc:title>Показательные уравнения</dc:title>
</cp:coreProperties>
</file>